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B67-1A8D-4DB4-AF79-1D4D3C4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CB2-E84B-49FB-A62F-78E5922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BF1-C979-4C21-84B8-F042F9BD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C93-D0BA-4557-AB8B-1E8D59ED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645-83B3-4D88-8F83-AE4ECDA2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9E4-ED6D-4895-A5C7-783FE39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EA3-19DC-44C1-924A-6FA5E32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583-0B04-4E51-83FC-EACB70F3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A6E-76F5-40D4-A3B3-2FAD3F3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410-3CA1-4C44-8C6D-946CA37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6A2-3A96-401B-B9CE-A32CBBF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AB6-1BF3-4F0D-A20A-1C0154D8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295-2154-49F0-93CD-A0E78E6923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Number challenges 1 - 10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: Rounded Corners 3"/>
          <p:cNvSpPr/>
          <p:nvPr/>
        </p:nvSpPr>
        <p:spPr>
          <a:xfrm>
            <a:off x="3098880" y="6311880"/>
            <a:ext cx="5992560" cy="3873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The Busy Lizzie Maths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8faa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8faa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4462560"/>
            <a:ext cx="105156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6 x 5) – (3 + 2)] ÷ 1 =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30 – 5) ÷ 1 =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5 ÷ 1 = 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4b18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4b18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4462200"/>
            <a:ext cx="10515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4 + 6) x (2 + 3)] + 1 = 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10 x 5) + 1 = 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0 + 1 = 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ar: 8 Points 10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8080" y="4462200"/>
            <a:ext cx="10515600" cy="15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6 x 4) + (4 – 2) ÷ 1 = 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24 + 2) ÷ 1 = 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6 ÷ 1 = 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4462200"/>
            <a:ext cx="10515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4 x 4) – 3] x 3 = 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16 – 3) x 3 = 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3 x 3 = 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9 + 4 = 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a9d18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a9d18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38080" y="4462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5 + 1) x 6 = 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6 – (2 – 1) =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7720" y="1604520"/>
            <a:ext cx="109904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 pages 4 – 23 you will find 10 challenges and one possible solution to each of the challen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ach challenge consists of 5 single digit numb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Use the numbers only once when making the target numb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Use + - x and ÷ as many times as you lik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or older children encourage the correct use of bracke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f the children cannot make the target number, ask them to make the nearest numb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xtend the challenge by asking the children to make the target number and the numbers either side of it giving three consecutive number targe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sing d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imilar activity can be produced by using seven 1 – 6 spot dice (5 of one colour and 2 of another colour)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Roll the 5 dice to generate the 5 single digit numbers you need.  Write these down on a piece of pap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Roll the two remaining d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 first dice will give you the digit for the ones position of the target number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 second dice, multiply that number by 10 to give the tens digit of your target numb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ite down the target number and use the numbers generated to make i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160" y="664056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8faa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8faa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080" y="4462560"/>
            <a:ext cx="1051560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4 x 2) + 1] x (4 + 2) = 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8 + 1) x 6 = 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9 x 6 = 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4b18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4b18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4462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4 x 5) + (4 x 3) + 3 = 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0 + 12 + 3 = 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962000"/>
          <a:ext cx="10515600" cy="4137120"/>
        </p:xfrm>
        <a:graphic>
          <a:graphicData uri="http://schemas.openxmlformats.org/drawingml/2006/table">
            <a:tbl>
              <a:tblPr/>
              <a:tblGrid>
                <a:gridCol w="2125800"/>
                <a:gridCol w="1446120"/>
                <a:gridCol w="1371600"/>
                <a:gridCol w="1386000"/>
                <a:gridCol w="1401840"/>
                <a:gridCol w="1341360"/>
                <a:gridCol w="14428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digit numb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1160" y="664056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1: solu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4462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6 x 3) + (3 + 2 + 1) =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8 + 6 =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ar: 8 Points 8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2: solu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4462200"/>
            <a:ext cx="10515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2 x 4) x 5] + (3 - 1) =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8 x 5) + 2 =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0 + 2 =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ar: 8 Points 10"/>
          <p:cNvSpPr/>
          <p:nvPr/>
        </p:nvSpPr>
        <p:spPr>
          <a:xfrm>
            <a:off x="6632640" y="4754520"/>
            <a:ext cx="1725480" cy="1738440"/>
          </a:xfrm>
          <a:custGeom>
            <a:avLst/>
            <a:gdLst>
              <a:gd name="textAreaLeft" fmla="*/ 405000 w 1725480"/>
              <a:gd name="textAreaRight" fmla="*/ 1320480 w 17254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a9d18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739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re are 5 numb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the numbers only once. You can use some or all operations, (+ - x ÷) as many times as you like to make a targe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you make this target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Challenge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Rectangle: Rounded Corners 3"/>
          <p:cNvSpPr/>
          <p:nvPr/>
        </p:nvSpPr>
        <p:spPr>
          <a:xfrm>
            <a:off x="278748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: Rounded Corners 4"/>
          <p:cNvSpPr/>
          <p:nvPr/>
        </p:nvSpPr>
        <p:spPr>
          <a:xfrm>
            <a:off x="420840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: Rounded Corners 5"/>
          <p:cNvSpPr/>
          <p:nvPr/>
        </p:nvSpPr>
        <p:spPr>
          <a:xfrm>
            <a:off x="562932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: Rounded Corners 6"/>
          <p:cNvSpPr/>
          <p:nvPr/>
        </p:nvSpPr>
        <p:spPr>
          <a:xfrm>
            <a:off x="70502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: Rounded Corners 7"/>
          <p:cNvSpPr/>
          <p:nvPr/>
        </p:nvSpPr>
        <p:spPr>
          <a:xfrm>
            <a:off x="8515440" y="2593800"/>
            <a:ext cx="1003320" cy="965520"/>
          </a:xfrm>
          <a:prstGeom prst="roundRect">
            <a:avLst>
              <a:gd name="adj" fmla="val 16667"/>
            </a:avLst>
          </a:prstGeom>
          <a:solidFill>
            <a:srgbClr val="5482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ar: 8 Points 8"/>
          <p:cNvSpPr/>
          <p:nvPr/>
        </p:nvSpPr>
        <p:spPr>
          <a:xfrm>
            <a:off x="9891720" y="2065320"/>
            <a:ext cx="1727280" cy="1738440"/>
          </a:xfrm>
          <a:custGeom>
            <a:avLst/>
            <a:gdLst>
              <a:gd name="textAreaLeft" fmla="*/ 405360 w 1727280"/>
              <a:gd name="textAreaRight" fmla="*/ 1321920 w 1727280"/>
              <a:gd name="textAreaTop" fmla="*/ 408240 h 1738440"/>
              <a:gd name="textAreaBottom" fmla="*/ 1330200 h 17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a9d18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1160" y="65977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767171"/>
                </a:solidFill>
                <a:latin typeface="Calibri"/>
              </a:rPr>
              <a:t>© www.thebusylizzie.co.uk 2019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4462560"/>
            <a:ext cx="1051560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(4 + 3) x 4] – (4 + 1) =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7 x 4) – 5 =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8 – 5 =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9T23:05:16Z</dcterms:created>
  <dc:creator>Elizabeth Gibbs</dc:creator>
  <dc:description/>
  <dc:language>en-US</dc:language>
  <cp:lastModifiedBy>Elizabeth Gibbs</cp:lastModifiedBy>
  <dcterms:modified xsi:type="dcterms:W3CDTF">2019-03-04T02:12:13Z</dcterms:modified>
  <cp:revision>17</cp:revision>
  <dc:subject/>
  <dc:title>Number challenges 1 - 10</dc:title>
</cp:coreProperties>
</file>